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4D1F-4712-4574-94F0-DE51FC503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mplate can be altered to change the tense and actual verb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s can be taken off or altered as well to fit the classroom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36A-1A19-4508-A3A2-E728DA76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98D-C209-4B10-BBAA-B44B4F86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17A-BE89-4355-A30C-423BC9BE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3DF-48C9-46A6-8E3F-13661F0A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445-F7C4-4427-BA1C-6D4550CD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C3A-1655-4F39-8117-B5D6E29A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DAD-015F-444D-A8A0-83074C03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750-B0EB-44CB-A4F6-A5C54231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93B-FF1E-4729-A484-E7CC1E98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4DC-D7EB-4FFC-AEA7-25B48B3A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BE1-DBC3-466A-961F-ADBD11DB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CE4-BC5B-45CA-8E91-3885208B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B37D-2635-4371-9D6B-48B2FC6DA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onjuguemos.com/" TargetMode="External"/><Relationship Id="rId2" Type="http://schemas.openxmlformats.org/officeDocument/2006/relationships/hyperlink" Target="http://www.conjuguemos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JUGATATION PRACTICE 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gez les verbe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/>
          </p:cNvPr>
          <p:cNvSpPr/>
          <p:nvPr/>
        </p:nvSpPr>
        <p:spPr>
          <a:xfrm>
            <a:off x="3600" y="2590920"/>
            <a:ext cx="903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onjuguemos.co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4952880" cy="518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ett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ll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voulo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990720"/>
            <a:ext cx="4191120" cy="5180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e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v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veux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0"/>
            <a:ext cx="31240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J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90720"/>
            <a:ext cx="4952880" cy="518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rt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o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t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rend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990720"/>
            <a:ext cx="4191120" cy="5180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o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ren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0"/>
            <a:ext cx="31240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l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4952880" cy="518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vo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ouvo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vo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avo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990720"/>
            <a:ext cx="4191120" cy="5180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voy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ouv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v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avon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0"/>
            <a:ext cx="31240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90720"/>
            <a:ext cx="4952880" cy="518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cr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a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hois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orm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990720"/>
            <a:ext cx="4191120" cy="5180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cr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hoi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0"/>
            <a:ext cx="31240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4952880" cy="518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a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ort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rend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990720"/>
            <a:ext cx="4191120" cy="5180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ai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orte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rene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it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0"/>
            <a:ext cx="31240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v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90720"/>
            <a:ext cx="4952880" cy="518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vo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vend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allo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evo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990720"/>
            <a:ext cx="4191120" cy="5180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v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a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oi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0"/>
            <a:ext cx="31240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90720"/>
            <a:ext cx="4952880" cy="518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ous /d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l / gross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je /perd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vous/pun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990720"/>
            <a:ext cx="4191120" cy="5180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is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gross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e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unisse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90720"/>
            <a:ext cx="4952880" cy="48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lles / fin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u/rend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ous/gross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n / croi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990720"/>
            <a:ext cx="4191120" cy="4902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iniss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rossis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ro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1:25:44Z</dcterms:created>
  <dc:creator>Dale Wielgus</dc:creator>
  <dc:description/>
  <dc:language>en-US</dc:language>
  <cp:lastModifiedBy>SDW</cp:lastModifiedBy>
  <dcterms:modified xsi:type="dcterms:W3CDTF">2010-10-30T16:57:36Z</dcterms:modified>
  <cp:revision>4</cp:revision>
  <dc:subject/>
  <dc:title>Slide 1</dc:title>
</cp:coreProperties>
</file>